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B33-9B14-40DE-A09A-FFF74684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D5D4-25DF-4183-8631-CA19CD6E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9EF-BF87-4DFA-BE80-E06727A5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6F3C-C867-4631-97B4-4E5AF31D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42BC-3DD3-4B94-AC8B-217AD033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96BF-A828-4978-9342-19928CDA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2B8C-4B31-4AD6-8A01-0D62B0AC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C3DA-244E-4F8A-B37B-718CE82B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338-CB3A-47BD-A3FC-6B7E9559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963-DBB3-43CD-9147-32910726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EF54-A8C5-4026-AABF-E19EEB57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64A-F25A-42E5-9699-DFE168E7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DF53-0ED0-4816-8E48-1056321A1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icturesof.net/pages/090817-142682-877009.html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ac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Outline of A Heart With Doves - Royalty Free Clipart Picture"/>
          <p:cNvPicPr/>
          <p:nvPr/>
        </p:nvPicPr>
        <p:blipFill>
          <a:blip r:embed="rId1"/>
          <a:stretch/>
        </p:blipFill>
        <p:spPr>
          <a:xfrm>
            <a:off x="3143160" y="2214720"/>
            <a:ext cx="28576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e is not merely a dista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 that we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Martin Luther Kin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A Dove With an Olive Branch - Royalty Free Clipart Picture"/>
          <p:cNvPicPr/>
          <p:nvPr/>
        </p:nvPicPr>
        <p:blipFill>
          <a:blip r:embed="rId1"/>
          <a:stretch/>
        </p:blipFill>
        <p:spPr>
          <a:xfrm>
            <a:off x="1447920" y="4038480"/>
            <a:ext cx="2857320" cy="1343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A Dove In Flight - Royalty Free Clipart Picture"/>
          <p:cNvPicPr/>
          <p:nvPr/>
        </p:nvPicPr>
        <p:blipFill>
          <a:blip r:embed="rId2"/>
          <a:stretch/>
        </p:blipFill>
        <p:spPr>
          <a:xfrm>
            <a:off x="5562720" y="2209680"/>
            <a:ext cx="28573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Hippy Holding a Peace Sign - Royalty Free Clipart Picture"/>
          <p:cNvPicPr/>
          <p:nvPr/>
        </p:nvPicPr>
        <p:blipFill>
          <a:blip r:embed="rId1"/>
          <a:stretch/>
        </p:blipFill>
        <p:spPr>
          <a:xfrm>
            <a:off x="3124080" y="2895480"/>
            <a:ext cx="248616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e is the word of love and so l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447920"/>
            <a:ext cx="6172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way to peace, peace is the way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J. Mus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ve each other and love will come bac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An Aged Hippie with a Guitar Standing In Front of a Peace Sign Royalty Free Clipart Picture"/>
          <p:cNvPicPr/>
          <p:nvPr/>
        </p:nvPicPr>
        <p:blipFill>
          <a:blip r:embed="rId1"/>
          <a:stretch/>
        </p:blipFill>
        <p:spPr>
          <a:xfrm>
            <a:off x="304920" y="19810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Peace Activist From Another Planet - Royalty Free Clipart Picture"/>
          <p:cNvPicPr/>
          <p:nvPr/>
        </p:nvPicPr>
        <p:blipFill>
          <a:blip r:embed="rId2"/>
          <a:stretch/>
        </p:blipFill>
        <p:spPr>
          <a:xfrm>
            <a:off x="5486400" y="2133720"/>
            <a:ext cx="2276640" cy="2857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2240" y="4800600"/>
            <a:ext cx="831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not have peace if we are only concerned with pe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is not an accid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e logical outcome of a certain way of lif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want to attack war, we have to attack that way of lif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5562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ve don’t hate and hate go’s a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White Dove With A Red Heart - Royalty Free Clipart Picture"/>
          <p:cNvPicPr/>
          <p:nvPr/>
        </p:nvPicPr>
        <p:blipFill>
          <a:blip r:embed="rId1"/>
          <a:stretch/>
        </p:blipFill>
        <p:spPr>
          <a:xfrm>
            <a:off x="3143160" y="2147760"/>
            <a:ext cx="2857680" cy="2562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45280" y="989280"/>
            <a:ext cx="795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e is the healing and elevating influence of the world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oodrow Wil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4876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ve is a peaceful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A Dove With an Olive Branch - Royalty Free Clipart 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8280" y="2952720"/>
            <a:ext cx="84744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A Dove With an Olive Branch - Royalty Free Clipart Picture"/>
          <p:cNvPicPr/>
          <p:nvPr/>
        </p:nvPicPr>
        <p:blipFill>
          <a:blip r:embed="rId3"/>
          <a:stretch/>
        </p:blipFill>
        <p:spPr>
          <a:xfrm>
            <a:off x="3300480" y="2000160"/>
            <a:ext cx="2543040" cy="2857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81080" y="0"/>
            <a:ext cx="457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as never a good war or a bad peace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jamin Franklin qu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08:22Z</dcterms:created>
  <dc:creator>Vanessa Collier</dc:creator>
  <dc:description/>
  <dc:language>en-US</dc:language>
  <cp:lastModifiedBy>Vanessa Collier</cp:lastModifiedBy>
  <dcterms:modified xsi:type="dcterms:W3CDTF">2010-05-03T17:23:39Z</dcterms:modified>
  <cp:revision>6</cp:revision>
  <dc:subject/>
  <dc:title>Martin Luther King </dc:title>
</cp:coreProperties>
</file>